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S Metadata Tools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.03.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2EC77F81-B5D0-4954-AE9E-27E85172F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051360" cy="24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051360" cy="244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059280" y="177336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364000" y="3500280"/>
            <a:ext cx="3051360" cy="2441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soft.org/xmllint.html" TargetMode="External"/><Relationship Id="rId2" Type="http://schemas.openxmlformats.org/officeDocument/2006/relationships/hyperlink" Target="http://www.inspire-geoportal.eu/INSPIREValidatorClient/validate.d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IS – Metadata Tool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6288120"/>
            <a:ext cx="8207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66A2F-8443-4EBB-9AE6-11CF8AB5B6ED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alid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Program with Xerces – hands-on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lint – Developer Version! – Stable release can’t handle iso19139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xmlsoft.org/xmlli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Online – Sometimes not available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inspire-geoportal.eu/INSPIREValidatorClient/validate.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EDA25-06E9-4D5F-A637-703A153E603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Generation and Maintenanc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Approach for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: XML::LibXML http://search.cpan.org/~shlomif/XML-LibXML-1.94/LibXML.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: JDOM http://www.jdom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A8E40-DB1A-4658-B717-CB2CAE02CE7C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4b9b"/>
                </a:solidFill>
                <a:latin typeface="Arial"/>
              </a:rPr>
              <a:t>Q&amp;A</a:t>
            </a:r>
            <a:endParaRPr b="1" lang="en-US" sz="32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01B58-73BC-4EFE-B283-F87288C61207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3-05T16:49:09Z</dcterms:modified>
  <cp:revision>261</cp:revision>
  <dc:subject/>
  <dc:title>Folie 1</dc:title>
</cp:coreProperties>
</file>