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38240" y="80280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402120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6554CF-AEC2-4DB0-A3E0-92524CF36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F851B8FE-0A49-4385-96B9-806A6178ACC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11AEF6D3-E752-4104-BB9D-8DA07F0091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9C8B9261-E3FC-4BA4-84AD-B1CBE67328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75920DA3-A0EA-4D07-AF65-C2FCD898A9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9704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8240" y="80316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45720" y="4892400"/>
            <a:ext cx="52038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8EF4B9D9-B71D-4A20-871A-155A3B21856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17364816-A579-482F-BB57-6C8233C2F22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R Metadata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.09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55F9C6D6-D74C-4ED1-80EF-C5C4D10732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88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spire.jrc.ec.europa.eu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lese.org/dds/services/joai_software.jsp" TargetMode="External"/><Relationship Id="rId2" Type="http://schemas.openxmlformats.org/officeDocument/2006/relationships/hyperlink" Target="http://www.oclc.org/research/activities/oaicat/defaul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spire-geoportal.eu/InspireEditor/" TargetMode="External"/><Relationship Id="rId2" Type="http://schemas.openxmlformats.org/officeDocument/2006/relationships/hyperlink" Target="http://inspire.jrc.ec.europa.eu/documents/Metadata/INSPIRE_MD_IR_and_ISO_v1_2_20100616.pdf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Black"/>
              </a:rPr>
              <a:t>DAR Metadat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51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both datasets are continually changing, both metadata records are ‘quasi-static’; only needing to be changed when the observation regime changes (i.e. a new instrument is deployed or the exact observation location changes) The critical differences between record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is example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 in any 24-hour period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temporal extent from 1954 to (almost) present da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tation authority: authority fo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.no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: the dataset described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y have undergone additional quality control to validate the observation record for inclusion in a long-term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the meeting noted that the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 significant overlap betwe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ne cannot assume that overlap exists. The meet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cluded that metadata records A and B describe entirely different products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9C105-F220-4796-88C6-261BF9B223C3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Identifier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n:x-wmo:m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.d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 is “: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SMAA01EDZ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FCUK31EG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cn.gov.cma::NMC.NWP.HCXA05BA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insensitive check for du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 uniqueness of a DAR Metadata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file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dat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BB53E-E3C6-4923-94D4-FD9F9112BF42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4b9b"/>
                </a:solidFill>
                <a:latin typeface="Arial"/>
              </a:rPr>
              <a:t>Introduction to DWD DAR metadata approach for GISC – conformance part</a:t>
            </a:r>
            <a:endParaRPr b="1" lang="en-US" sz="18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9139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conform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Commission Directive (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inspire.jrc.ec.europa.e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manding than 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guidelines (paper with 74 pages) (http://inspire.jrc.ec.europa.eu/documents/Metadata/INSPIRE_MD_IR_and_ISO_v1_2_20100616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metadata by ~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6272D-4F14-4382-8B7F-4E98B2931210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WD DAR Metadata generator - architectur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2520" y="3284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724280"/>
            <a:ext cx="1008000" cy="1297080"/>
          </a:xfrm>
          <a:prstGeom prst="can">
            <a:avLst>
              <a:gd name="adj" fmla="val 25000"/>
            </a:avLst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360" y="6113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800" y="3284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89000"/>
            <a:ext cx="1008000" cy="1295640"/>
          </a:xfrm>
          <a:prstGeom prst="flowChartDocument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1916280"/>
            <a:ext cx="1008000" cy="136656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068640"/>
            <a:ext cx="863640" cy="93492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5" idx="1"/>
          </p:cNvCxnSpPr>
          <p:nvPr/>
        </p:nvCxnSpPr>
        <p:spPr>
          <a:xfrm flipV="1">
            <a:off x="899640" y="4004640"/>
            <a:ext cx="1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900000" y="42926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060640"/>
            <a:ext cx="863640" cy="647640"/>
          </a:xfrm>
          <a:prstGeom prst="flowChart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" y="270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98900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Fi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1"/>
            <a:endCxn id="130" idx="0"/>
          </p:cNvCxnSpPr>
          <p:nvPr/>
        </p:nvCxnSpPr>
        <p:spPr>
          <a:xfrm flipV="1" rot="10800000">
            <a:off x="899280" y="2383200"/>
            <a:ext cx="936000" cy="68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28" idx="1"/>
          </p:cNvCxnSpPr>
          <p:nvPr/>
        </p:nvCxnSpPr>
        <p:spPr>
          <a:xfrm flipH="1" flipV="1" rot="5400000">
            <a:off x="3311280" y="1591920"/>
            <a:ext cx="72000" cy="2161080"/>
          </a:xfrm>
          <a:prstGeom prst="bentConnector4">
            <a:avLst>
              <a:gd name="adj1" fmla="val -319597"/>
              <a:gd name="adj2" fmla="val 6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771280" y="29973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221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005360"/>
            <a:ext cx="936720" cy="107928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542304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a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3" idx="2"/>
            <a:endCxn id="141" idx="2"/>
          </p:cNvCxnSpPr>
          <p:nvPr/>
        </p:nvCxnSpPr>
        <p:spPr>
          <a:xfrm flipH="1" rot="16200000">
            <a:off x="1672200" y="3301560"/>
            <a:ext cx="2377080" cy="1189800"/>
          </a:xfrm>
          <a:prstGeom prst="bentConnector3">
            <a:avLst>
              <a:gd name="adj1" fmla="val 109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835280" y="4869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479736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22160" y="6093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39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29" idx="1"/>
            <a:endCxn id="141" idx="3"/>
          </p:cNvCxnSpPr>
          <p:nvPr/>
        </p:nvCxnSpPr>
        <p:spPr>
          <a:xfrm flipV="1" rot="10800000">
            <a:off x="3923640" y="2599920"/>
            <a:ext cx="2880360" cy="1945440"/>
          </a:xfrm>
          <a:prstGeom prst="bentConnector3">
            <a:avLst>
              <a:gd name="adj1" fmla="val 24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3" idx="2"/>
            <a:endCxn id="141" idx="0"/>
          </p:cNvCxnSpPr>
          <p:nvPr/>
        </p:nvCxnSpPr>
        <p:spPr>
          <a:xfrm flipH="1" rot="16200000">
            <a:off x="2211840" y="2761920"/>
            <a:ext cx="1297800" cy="1189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340000" y="3500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2880" y="35146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1"/>
            <a:endCxn id="141" idx="2"/>
          </p:cNvCxnSpPr>
          <p:nvPr/>
        </p:nvCxnSpPr>
        <p:spPr>
          <a:xfrm rot="10800000">
            <a:off x="3455280" y="5083920"/>
            <a:ext cx="21960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140360" y="5445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580536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ate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4653000"/>
            <a:ext cx="865080" cy="1150920"/>
          </a:xfrm>
          <a:prstGeom prst="flowChartDocumen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1" idx="3"/>
            <a:endCxn id="155" idx="1"/>
          </p:cNvCxnSpPr>
          <p:nvPr/>
        </p:nvCxnSpPr>
        <p:spPr>
          <a:xfrm>
            <a:off x="3924360" y="4544640"/>
            <a:ext cx="3744000" cy="6850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651640" y="4797360"/>
            <a:ext cx="934920" cy="12240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479736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4160" y="530064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9800" y="5877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927E3-5A9F-4364-B1A5-2B213289164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exchang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SC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-PMH (Open Archives Initiative Protocol for Metadata Harv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mplement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I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dlese.org/dds/services/joai_software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Cat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oclc.org/research/activities/oaicat/defaul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/DCPCs uploading DAR Metadata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TS: file-naming-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BDEDB-A101-4AF6-90F8-02053C246865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Resources and further inform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– Final Report http://www.wmo.int/pages/prog/www/WDM/IPET-MDI-I/report/Report_IPETMDI_I_20100503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Guidance Documentation, Draft http://www.wmo.int/pages/prog/wis/2010/metadata/version_1-2/WMO%20Core%20Metadata%20Profile%20v1-2%20Guidance%20Documentation%20v0.1%20(DRAFT)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Group: wmo-ipetmdi@googlegroup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Schema Location: http://wis.wmo.int/2011/schemata/iso19139_2007/schema/gmd/gmd.x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Editor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inspire-geoportal.eu/InspireEdito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- http://www.inspire-geoportal.eu/INSPIREValidatorClient/validate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Metadata Implementing Rules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inspire.jrc.ec.europa.eu/documents/Metadata/INSPIRE_MD_IR_and_ISO_v1_2_2010061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382DF-5711-457F-9E26-FB18F0B19A3F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00A78-B57C-40AB-8D57-38F8421F3639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types &amp; associated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 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D DAR Metadata generator –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B3C33-D2D5-4299-A5A8-5DF66AA9107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’m not member of IPET-M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is an introduction to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 Metadata are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ll-formed XM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against a schema (ISO 191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19139 defines an XML representation for ISO 19115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shows DWDs approach to produce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3FD9E-5176-4AA6-AC5D-763B3BAF9B9E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out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7048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774A8-B9B5-4887-9564-1C1D7A4901E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96840" y="1812960"/>
            <a:ext cx="71503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62166-F59A-48A0-8EDD-59789908351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olC1 and DAR metadat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20" y="4220640"/>
            <a:ext cx="42685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C1: One line per bull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: One XML file per bulletin ~ 20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71640"/>
            <a:ext cx="7956720" cy="1871640"/>
          </a:xfrm>
          <a:prstGeom prst="flowChartPunchedTape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LATVIA","RIGA","11/06/2008","PACH40","EVRR","HDF5","H+00,H+10,H+20,H+30,H+40,H+50",,"RADAR DATA FROM RIG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6","ENMI","FM 94-XII BUFR","H+00,H+15,H+30,H+45",,"RADAR WIND PROFILE DATA OF ANDOY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7","ENMI","FM 94-XII BUFR","H+00,H+15,H+30,H+45",,"RADAR WIND PROFILE DATA OF HASVI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8","ENMI","FM 94-XII BUFR","H+00,H+15,H+30,H+45",,"RADAR WIND PROFILE DATA OF STA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9","ENMI","FM 94-XII BUFR","H+00,H+15,H+30,H+45",,"RADAR WIND PROFILE DATA OF HURUM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OFFENBACH","GERMANY","OFFENBACH","06/07/2007","IUPD40","EDZW","FM 94-XIII","AS REQUIRED","10204","SINGLE RADAR VERTICAL 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518000" cy="42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669ED-41BD-4AF2-8EED-32DBB4989F6D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WMO-Core-Metadata-Profile: Minimum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2066760"/>
            <a:ext cx="739764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F598B-B9B5-4000-93C8-29324FA557F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868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F545E-D196-41A3-9F13-FD22F28AE748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a dataset of bulletins which are stored in the 24-hour cache of the GI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equivalent (although more informative) to a record in WMO vol C1 &amp; describes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tents of this type of bulletin; for example SYNOPS from several observation stations; including MLO (Mauna Loa, Hawaii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scribes a long-term climate record from station MLO which is comprised of a collection of SYNOPTIC observations from, say, 1954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F01FC-4D1C-40BC-8037-D611F1F99B9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2-01T16:53:32Z</dcterms:modified>
  <cp:revision>264</cp:revision>
  <dc:subject/>
  <dc:title>Folie 1</dc:title>
</cp:coreProperties>
</file>